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4924-8ECF-4E73-95AF-97A1DD68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9439-1379-4D5A-9780-F20A10F4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D67-AF71-421E-847E-AE6E2520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A587-7549-418E-B054-DFFE8824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3E97-53CB-41C9-9E39-061EA095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991-1FD1-4D5E-AEF6-48F5252C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4D3D-1AD2-471C-B3C7-227BDE42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0E9A-EEEE-4B04-A247-D3E4206A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909-3F1D-434B-BF27-D9223FA5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7B4E-C9A7-4D37-AEA1-B8819360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89EF-7A8B-4BED-A120-6FA16F1C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19D9-FA06-47CD-B27E-6962B4B3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2AC1-A67C-421E-845E-14AEBC7C3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ava 2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Java Applications, Java Development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ASSPATH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Java finds compiled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ystem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st of directories and/or jar files (similar to PA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mon source of frustr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PATH=c:\classes;c:\applications\app.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y Java tools into three 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PATH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“mixed mode” (I.e. use bo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e based t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vadoc, j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cept command-line parameters referring to 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ad the directory structure to find related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avadoc c:\intro2java\src\intro2java\*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sult in file-based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PATH based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ava, jav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fer to classes and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gnore the file-system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xcept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those directories mentioned in the CLASS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s at those directories and walks down to find the correct .class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look inside JAR files to do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ult i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xception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rro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e.g.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lassNotFoundExcep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oClassDefFound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PATH based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LASSPATH=c:\s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ava com.ldodds.intro2java.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screenshot" descr=""/>
          <p:cNvPicPr/>
          <p:nvPr/>
        </p:nvPicPr>
        <p:blipFill>
          <a:blip r:embed="rId1"/>
          <a:stretch/>
        </p:blipFill>
        <p:spPr>
          <a:xfrm>
            <a:off x="914400" y="4267080"/>
            <a:ext cx="52578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xed mod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v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cept parameters referring to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, Read the CLASSPATH to find related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avac c:\intro2java\src\intro2java\*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sults in file errors (relating to parameters), and “cannot resolve symbol” errors (relating to missing clas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PATH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ways add “the current working directory” to the CLASS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ET CLASSPATH=%CLASSPATH%;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od idea keep classes and source separate (e.g. bin and src director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need to be careful when comp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 a “global” classes directory, e.g. c:\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this to the CLASS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ways compile into that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ET CLASSPATH=%CLASSPATH%;c:\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javac –d c:\classes *.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Java Programming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-line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Practical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and Line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has no notion of execu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loads classes into the virtual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ing a Java application involves calling a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may then create objects, call other methods, etc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needs to be a starting point to trigger the application to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turn a class into an application, give it a “main”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of this format (otherwise Java can’t find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then be invoked from the command-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 all the work to initialise the app (create objects, etc) in this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imise the amount of code in there: just create an object or two, and call their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and Lin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ameters are passed in as an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.g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java MyApplication param1 param2 para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also use “System Properti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meters global to the whole 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them with the System.getProperty()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the command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java –DpropertyName=propertyValue My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/In th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tring value = System.getProperty(“propertyValue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gramming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-Line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al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More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Constants, Strings,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The Object Life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Java Programming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al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lcu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classdiagram1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2446560" cy="28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Programming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vac – the Java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va – the Java Executable (virtual mach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vadoc – Java Documentation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ar – Java ARchive cre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found i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%JAVA_HOME%\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c – the Java 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rates bytecode (.class files) from source code (.java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class file per sourc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age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javac MyApplication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javac com\ldodds\intro2java\Robot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avac expects source code to be organised into directories according to packag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directory per “dotted” portion of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Director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.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ckage com.ldodds.intro2jav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creenshot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62485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– the Virtual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ecutes the virtual machine and loads one or more classes in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ecify the class name (including packages) as a para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n’t indicate the clas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but the clas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java My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java com.ldodds.intro2java.Rob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avadoc – the Documentation Gener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tomatically generates HTML documentation from Java sourc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y efficient way to produce development documentation for your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javadoc com\ldodds\intro2java\Robot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utput can be customised in a number of different way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ually by adding special “tags” to the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st of useful tags in the Tools Reference hand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doc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 A &lt;i&gt;simple&lt;/i&gt; Calc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 @author Leigh Dod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Calc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 Adds two numbers together and returns the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int plus(int x, int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x +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r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ava ARch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cally a zip file, used to package java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for delivery as an applet or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ually contain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anif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index of the contents of a ja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jor benefit is indicating which class holds the “main”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ows an application to be launched automatically from a ja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.g. by double-clicking the arch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06:04:31Z</dcterms:created>
  <dc:creator>Leigh Dodds</dc:creator>
  <dc:description/>
  <dc:language>en-US</dc:language>
  <cp:lastModifiedBy>Leigh Dodds</cp:lastModifiedBy>
  <dcterms:modified xsi:type="dcterms:W3CDTF">2003-02-27T17:20:06Z</dcterms:modified>
  <cp:revision>214</cp:revision>
  <dc:subject/>
  <dc:title>Introduction to Java 2 Programming</dc:title>
</cp:coreProperties>
</file>